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CEFB-9BFA-4640-A16F-1BB5B727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DFC7-FCE2-4048-B070-44205FEA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772-F483-42C0-91E8-B0F067BF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6181-DA01-4283-BE4A-3DC74A55C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491-304A-45EC-8291-00DC7B8D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161-2872-4168-9158-791DDF3C1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E46C-00E6-4E40-9281-B7C0B35D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EFC-B010-4954-AFDA-BD025862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94C-D539-4592-B10C-9A149DED3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DCD8-2ACF-44B7-A832-4885451E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9C2-C86E-475D-96AB-680C39F4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2A8-1338-4CE0-ADC5-7CCC9CFC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E94-AB65-4016-909E-AE07EF4E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B4E-1083-429E-97A2-08A86746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482-4A2E-4A9C-B08A-1148FBE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384-8BBE-4E74-A7FE-8A27E887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750-52C9-4AD6-AF6F-A51FF4DF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2BC-805C-4831-9DF8-43C84C58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FF0-EF99-4599-970C-13C26D4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EF3-1D54-44D0-8132-40B3E5A6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A92-F95C-45DB-9913-187D07A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896-2EBB-42EE-85DF-AE1C893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A8FB-0F0E-4329-B9F4-04110D763A46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fun part of wri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3619440" cy="3538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mistake when using quotes is that most students will use them to fill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not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reng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ir poin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28932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to remember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ote should not be its own senten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quote shoul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with 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u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hould usually not act as a transition from paragraph to paragraph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tation should include the author’s last name, page number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should be an explanation after the quote that explains how the quote supports your poin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ad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3580920"/>
            <a:ext cx="815364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edipus, Jocasta said that Oedipus should not fear anything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What should a man fear? It’s all chance, chance rules our lives. Not a man on earth can see a day ahead, groping through the dark.” (Oedip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quote shows that Jocasta believes that Oedipus should not fear anyth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2552760" cy="241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1523880" y="1676520"/>
            <a:ext cx="3048120" cy="250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tter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1752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out the play, Oedipus was fearful over circumstances that he could not control. Even Jocasta understood tha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“it’s all chance, chance rules our lives. Not a man on earth can see a day ahead, groping through the dark” (Sophocles 303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espite these words of wisdom from his loving wife, Oedipus continued to act irrationally, ignoring advice from those around him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2" name="Picture 4" descr="Photo 5"/>
          <p:cNvPicPr/>
          <p:nvPr/>
        </p:nvPicPr>
        <p:blipFill>
          <a:blip r:embed="rId2"/>
          <a:stretch/>
        </p:blipFill>
        <p:spPr>
          <a:xfrm>
            <a:off x="2514600" y="42670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629400" cy="13716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ng Quotes…What do I do?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739152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ng quotes (quotes that take up at least 4 lines of the paper) are separated from the text by indenting them 10 spac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ng quotes are also single-space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riods are placed before the parenthesis with long quot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ng Quote Examp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edipus was shocked to discover that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he'll be revealed a brother and a father to his children in his house, husband and son to her who gave him birth; wife-sharer and the killer of his father. (Sophocles 473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hat’s in the Parenthesis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518148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 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or’s Last Na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tle of Piece,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use quotes if it is an article, poem, or short story; underline if it is a book. Abbreviate if it is longer than 4 wor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me of Publisher or Website hos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3700440" cy="4046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 B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ge number as long as it’s not a websit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Copyright/publish d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9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The date you found the informatio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971800" y="1143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rt  A   Part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464796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2575440" y="1600200"/>
            <a:ext cx="47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at your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15:43Z</dcterms:created>
  <dc:creator>Buffalo Grove High School</dc:creator>
  <dc:description/>
  <dc:language>en-US</dc:language>
  <cp:lastModifiedBy>BGHS</cp:lastModifiedBy>
  <dcterms:modified xsi:type="dcterms:W3CDTF">2008-11-26T13:03:36Z</dcterms:modified>
  <cp:revision>6</cp:revision>
  <dc:subject/>
  <dc:title>Citations</dc:title>
</cp:coreProperties>
</file>